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B52C-B3F1-412F-8107-8FEBDC3C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prototype some  things in V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51B-92CE-4939-AE93-521D7DD4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F4E-A5AB-4175-A251-164FAB4C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F9E-95F2-4DFD-ACAE-1DC1D809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C2B-16F3-44FA-9AF8-8DAAEB1C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757-FC19-4DED-AF8D-D9CD810F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79CB-6DEE-4AA9-B995-889DAEB4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39AB-58C3-48DB-84B2-E552F7E5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D2FA-13CE-4FAB-B2ED-EC1765D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E174-5609-461B-B8C6-F0A990C2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0659-97F5-4319-959A-67ABF19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05D8-DADA-4F1D-83DF-93FF283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44B-2A74-416E-85B1-8CA3F5EE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AA96-47A9-400B-A7A3-C1A0F84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280C-1409-4B52-945C-72C90DAF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BF36-0D4A-4A0F-A80E-FFBC9E1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FF0A-9090-4E82-958A-65ED9212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8345-24F0-4032-ABF5-7E7BF3F8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8C0-CD13-4FE7-9E6F-E51D5E16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44D-99EA-4904-A8B7-C40A1F4C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D0AB-F8F3-49D8-A107-DD923C34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79B-D880-42DC-9D4C-8D364BC8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2D7-5D8B-4214-AB3A-0EF77AFD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56E6-F66D-4492-B823-2D004C0E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8357-DCD8-4A24-96CE-7758176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7E1-9DE0-4FEF-96D8-FE6E48D92F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08A9-1EFB-4EFA-B895-0D4EB9F3FD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http://mhs.jimweller.net/" TargetMode="External"/><Relationship Id="rId4" Type="http://schemas.openxmlformats.org/officeDocument/2006/relationships/hyperlink" Target="http://mhs.jimweller.net/" TargetMode="External"/><Relationship Id="rId5" Type="http://schemas.openxmlformats.org/officeDocument/2006/relationships/hyperlink" Target="http://mhs.jimweller.net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hs.jimweller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4724280"/>
          <a:ext cx="2361960" cy="18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2361960" cy="18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143000"/>
            <a:ext cx="8915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Moose Forage Surveyor</a:t>
            </a:r>
            <a:br>
              <a:rPr sz="18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inal Presentation</a:t>
            </a:r>
            <a:br>
              <a:rPr sz="1800"/>
            </a:br>
            <a:r>
              <a:rPr b="1" lang="fr-F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mhs.jimweller.net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/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715000" y="457524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514600" y="3124080"/>
            <a:ext cx="38098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! Fun! Fun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# i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wee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LE is obt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nging requirements means no sense of cl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VC is useful paradig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otyping like sculpture (chisel until perfec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could do this for a living </a:t>
            </a:r>
            <a:r>
              <a:rPr b="1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68520"/>
            <a:ext cx="80773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 Dom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ose Popula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at current year growth (CYG) of tasty pla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row or shrink proportional to tasty forage supp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ologist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Current Year’s Growth (CY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lculate biomass of forage supp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ct sustainable moose popul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urrent techniques are time consum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r. Spalinger suggests a sparse mod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l uses regressions and projec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del built using computer and hard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en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encies like the Forest Service give biologists a list of GPS waypoints in a comma separated values (CSV) f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go to the waypo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measure moose forage using Tablet PCs and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ologists then export the measurement data for each waypoint as a CSV fi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otyping Life Cyc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69240" y="6334200"/>
            <a:ext cx="6120" cy="7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9360" y="17593"/>
                </a:moveTo>
                <a:cubicBezTo>
                  <a:pt x="19366" y="17604"/>
                  <a:pt x="19368" y="17609"/>
                  <a:pt x="19376" y="1761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90720" y="2363760"/>
            <a:ext cx="62211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VC Archit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framework to record CYG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iew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eadouts and realtime 2D/3D sc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ro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ata with software and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4002120"/>
          <a:ext cx="403848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02120"/>
                    <a:ext cx="40384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iplined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Plan in MS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g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mhs.jimweller.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ekly+ Meetings with Dr. Spalin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0" t="0" r="0" b="52037"/>
          <a:stretch/>
        </p:blipFill>
        <p:spPr>
          <a:xfrm>
            <a:off x="1001880" y="3886200"/>
            <a:ext cx="7380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mplemented in Visual Studio 2003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D Pen as OLE control in C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in C#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ware awar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D using Direct3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D using GDI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k Inp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 serialization/deseri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43828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tal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es of Code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,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ject Size in meg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VS Commi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O Classe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 hour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ting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g post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nds of Gear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2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monstration Movi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e’s a 6 minute sample movie that shows some of the software’s capabil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HS Final.wm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2:55:53Z</dcterms:created>
  <dc:creator>Jim Weller</dc:creator>
  <dc:description/>
  <dc:language>en-US</dc:language>
  <cp:lastModifiedBy>Jim Weller</cp:lastModifiedBy>
  <dcterms:modified xsi:type="dcterms:W3CDTF">2006-04-18T23:00:42Z</dcterms:modified>
  <cp:revision>31</cp:revision>
  <dc:subject/>
  <dc:title>Moose Habitat Surveyor (MHS) Requirements and Design Analysis http://mhs.jimweller.net/ </dc:title>
</cp:coreProperties>
</file>